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CCD-8B7A-435B-95E6-E2788B2E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C0F-4747-4332-AB82-CDCAB942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77B-8B50-4E00-AF9D-8B049204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2D0-EB25-4EB9-973D-3E4FC9BD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A66-BDF4-47EC-9092-5020CC47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8C3-D1A9-4E5A-B71F-9C6A6F7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846-3B73-4666-BD8A-0DBAF618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3F1-388B-4DFA-837B-B0969E3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2E4-4C4D-4F28-83CD-4C1DE27C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34C-8AF1-451A-BD94-A9FB677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6D0-48E4-47F0-BEB0-97A0B123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180-1C0B-47F6-A8A1-EFCDF8F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A50D-A580-483E-8156-2245BE6070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0"/>
            <a:ext cx="428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عالم جائ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عن مائدتي الخبز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-2319480" y="212760"/>
            <a:ext cx="13675680" cy="177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417528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سرقوا الحب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000" y="61920"/>
            <a:ext cx="4572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ثوبيَ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29T08:49:16Z</dcterms:modified>
  <cp:revision>13</cp:revision>
  <dc:subject/>
  <dc:title>PowerPoint Presentation</dc:title>
</cp:coreProperties>
</file>